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357-1095-4A21-A17B-88A4CFC5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91B-1B9C-4638-A96A-85EFBDC1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090-A453-46D3-81E0-02010DFB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3A2-DF83-4056-82AB-F4AD4766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AF72-1783-46C9-A48F-27ABDEA9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9613-1AE2-4EF7-8720-22B0F4A9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459E-9DC1-40EA-A227-15C4B830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9438-21F0-462C-83A7-AD27F51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59E-18E5-415A-A210-48E9137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1D5-ACAC-4D8D-9D8F-2D242B5E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DFAA-1106-4820-86CF-4648298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59B-DB1E-4B43-8A88-F3A45357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63B-DC30-400C-8EA9-CC8300F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550D-1E40-4792-8FB5-1F5B9B8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94BD-9DE8-49F5-9E81-2E61698B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626-557C-4F52-BEFD-52A1AA24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A38D-F7C4-43C6-95AB-E31BA7C7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026-6D13-432C-B880-352C0F76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F87-5A66-49EB-BD6E-7B3BD16A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B22-3E46-492B-95E6-FE69B60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F75-76C6-40A8-9B51-089C17C5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F05-6E44-4EC0-BB2E-6EAF4FF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CAA-ECC4-45FC-A365-9FC6565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B0F-FA15-4FF5-A1F4-D9731F4A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a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E4A-2850-4695-9612-E3C9553A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a3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B0DC-DE5B-4B85-8C1A-C7DCCAE10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8a3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2:08:21Z</dcterms:created>
  <dc:creator>Bonnie Ritchey</dc:creator>
  <dc:description/>
  <dc:language>en-US</dc:language>
  <cp:lastModifiedBy>Bonnie Ritchey</cp:lastModifiedBy>
  <dcterms:modified xsi:type="dcterms:W3CDTF">2004-05-04T02:08:4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0971033</vt:lpwstr>
  </property>
</Properties>
</file>